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wmf" ContentType="image/x-wmf"/>
  <Override PartName="/ppt/media/image26.wmf" ContentType="image/x-wmf"/>
  <Override PartName="/ppt/media/image25.png" ContentType="image/png"/>
  <Override PartName="/ppt/media/image24.png" ContentType="image/png"/>
  <Override PartName="/ppt/media/image23.wmf" ContentType="image/x-wmf"/>
  <Override PartName="/ppt/media/image4.png" ContentType="image/png"/>
  <Override PartName="/ppt/media/image34.png" ContentType="image/png"/>
  <Override PartName="/ppt/media/image7.wmf" ContentType="image/x-wmf"/>
  <Override PartName="/ppt/media/image1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6.wmf" ContentType="image/x-wmf"/>
  <Override PartName="/ppt/media/image1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.jpeg" ContentType="image/jpeg"/>
  <Override PartName="/ppt/media/image20.wmf" ContentType="image/x-wmf"/>
  <Override PartName="/ppt/media/image17.png" ContentType="image/png"/>
  <Override PartName="/ppt/media/image19.wmf" ContentType="image/x-wmf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5.3 - </a:t>
            </a:r>
            <a:fld id="{2BD52B83-A058-43D6-8226-CF1E2305EFF4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garith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0  and 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 for any logarithmic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3352680"/>
          <a:ext cx="28069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2806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4362480" y="3276720"/>
            <a:ext cx="41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garithm is an expon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of the following to a logarithmic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 16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0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876920"/>
            <a:ext cx="8077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001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01 = –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756400"/>
            <a:ext cx="8077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 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480" y="2909880"/>
            <a:ext cx="8384400" cy="1740960"/>
            <a:chOff x="609480" y="2909880"/>
            <a:chExt cx="8384400" cy="1740960"/>
          </a:xfrm>
        </p:grpSpPr>
        <p:grpSp>
          <p:nvGrpSpPr>
            <p:cNvPr id="132" name=""/>
            <p:cNvGrpSpPr/>
            <p:nvPr/>
          </p:nvGrpSpPr>
          <p:grpSpPr>
            <a:xfrm>
              <a:off x="2209680" y="3124080"/>
              <a:ext cx="6784200" cy="533520"/>
              <a:chOff x="2209680" y="3124080"/>
              <a:chExt cx="6784200" cy="533520"/>
            </a:xfrm>
          </p:grpSpPr>
          <p:sp>
            <p:nvSpPr>
              <p:cNvPr id="133" name=""/>
              <p:cNvSpPr/>
              <p:nvPr/>
            </p:nvSpPr>
            <p:spPr>
              <a:xfrm>
                <a:off x="5073120" y="3124080"/>
                <a:ext cx="39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The exponent is the logarithm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2209680" y="3352680"/>
                <a:ext cx="2895840" cy="304920"/>
                <a:chOff x="2209680" y="3352680"/>
                <a:chExt cx="2895840" cy="304920"/>
              </a:xfrm>
            </p:grpSpPr>
            <p:sp>
              <p:nvSpPr>
                <p:cNvPr id="135" name=""/>
                <p:cNvSpPr/>
                <p:nvPr/>
              </p:nvSpPr>
              <p:spPr>
                <a:xfrm flipH="1">
                  <a:off x="2209680" y="3352680"/>
                  <a:ext cx="2895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952880" y="33526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209680" y="33526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609480" y="2909880"/>
              <a:ext cx="8153640" cy="1740960"/>
              <a:chOff x="609480" y="2909880"/>
              <a:chExt cx="8153640" cy="1740960"/>
            </a:xfrm>
          </p:grpSpPr>
          <p:sp>
            <p:nvSpPr>
              <p:cNvPr id="139" name=""/>
              <p:cNvSpPr/>
              <p:nvPr/>
            </p:nvSpPr>
            <p:spPr>
              <a:xfrm>
                <a:off x="685800" y="3622680"/>
                <a:ext cx="807732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1000"/>
              </a:bodyPr>
              <a:p>
                <a:pPr>
                  <a:lnSpc>
                    <a:spcPct val="9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)  16 = </a:t>
                </a:r>
                <a:r>
                  <a:rPr b="0" lang="en-US" sz="2800" spc="-1" strike="noStrike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0" i="1" lang="en-US" sz="2800" spc="-1" strike="noStrike" baseline="30000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        log</a:t>
                </a:r>
                <a:r>
                  <a:rPr b="0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6 = </a:t>
                </a:r>
                <a:r>
                  <a:rPr b="0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2057040" y="4038120"/>
                <a:ext cx="6554520" cy="612720"/>
                <a:chOff x="2057040" y="4038120"/>
                <a:chExt cx="6554520" cy="612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064480" y="4191120"/>
                  <a:ext cx="3547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ff"/>
                      </a:solidFill>
                      <a:latin typeface="Times New Roman"/>
                    </a:rPr>
                    <a:t>The base remains the same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" name=""/>
                <p:cNvGrpSpPr/>
                <p:nvPr/>
              </p:nvGrpSpPr>
              <p:grpSpPr>
                <a:xfrm>
                  <a:off x="2057040" y="4038120"/>
                  <a:ext cx="3048120" cy="381600"/>
                  <a:chOff x="2057040" y="4038120"/>
                  <a:chExt cx="3048120" cy="3816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>
                    <a:off x="2057040" y="4419720"/>
                    <a:ext cx="3048120" cy="0"/>
                  </a:xfrm>
                  <a:prstGeom prst="line">
                    <a:avLst/>
                  </a:prstGeom>
                  <a:ln w="9360">
                    <a:solidFill>
                      <a:srgbClr val="33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2057400" y="4038120"/>
                    <a:ext cx="0" cy="381240"/>
                  </a:xfrm>
                  <a:prstGeom prst="line">
                    <a:avLst/>
                  </a:prstGeom>
                  <a:ln w="9360">
                    <a:solidFill>
                      <a:srgbClr val="3333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4038480" y="411444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3333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6" name=""/>
              <p:cNvSpPr/>
              <p:nvPr/>
            </p:nvSpPr>
            <p:spPr>
              <a:xfrm>
                <a:off x="609480" y="2909880"/>
                <a:ext cx="156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olution: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of the following to an exponential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 lo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2=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lo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4876920"/>
            <a:ext cx="8077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lo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8  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756400"/>
            <a:ext cx="8077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09480" y="2909880"/>
            <a:ext cx="8384400" cy="1740960"/>
            <a:chOff x="609480" y="2909880"/>
            <a:chExt cx="8384400" cy="1740960"/>
          </a:xfrm>
        </p:grpSpPr>
        <p:grpSp>
          <p:nvGrpSpPr>
            <p:cNvPr id="152" name=""/>
            <p:cNvGrpSpPr/>
            <p:nvPr/>
          </p:nvGrpSpPr>
          <p:grpSpPr>
            <a:xfrm>
              <a:off x="2666880" y="3124080"/>
              <a:ext cx="6327000" cy="533520"/>
              <a:chOff x="2666880" y="3124080"/>
              <a:chExt cx="6327000" cy="533520"/>
            </a:xfrm>
          </p:grpSpPr>
          <p:sp>
            <p:nvSpPr>
              <p:cNvPr id="153" name=""/>
              <p:cNvSpPr/>
              <p:nvPr/>
            </p:nvSpPr>
            <p:spPr>
              <a:xfrm>
                <a:off x="5073120" y="3124080"/>
                <a:ext cx="39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The logarithm is the exponent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2666880" y="3352680"/>
                <a:ext cx="2438640" cy="304920"/>
                <a:chOff x="2666880" y="3352680"/>
                <a:chExt cx="2438640" cy="304920"/>
              </a:xfrm>
            </p:grpSpPr>
            <p:sp>
              <p:nvSpPr>
                <p:cNvPr id="155" name=""/>
                <p:cNvSpPr/>
                <p:nvPr/>
              </p:nvSpPr>
              <p:spPr>
                <a:xfrm flipH="1">
                  <a:off x="2666880" y="3352680"/>
                  <a:ext cx="24386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406760" y="33526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666880" y="33526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" name=""/>
            <p:cNvGrpSpPr/>
            <p:nvPr/>
          </p:nvGrpSpPr>
          <p:grpSpPr>
            <a:xfrm>
              <a:off x="609480" y="2909880"/>
              <a:ext cx="8153640" cy="1740960"/>
              <a:chOff x="609480" y="2909880"/>
              <a:chExt cx="8153640" cy="1740960"/>
            </a:xfrm>
          </p:grpSpPr>
          <p:sp>
            <p:nvSpPr>
              <p:cNvPr id="159" name=""/>
              <p:cNvSpPr/>
              <p:nvPr/>
            </p:nvSpPr>
            <p:spPr>
              <a:xfrm>
                <a:off x="685800" y="3622680"/>
                <a:ext cx="807732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1000"/>
              </a:bodyPr>
              <a:p>
                <a:pPr>
                  <a:lnSpc>
                    <a:spcPct val="9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) log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2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2 = 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          </a:t>
                </a:r>
                <a:r>
                  <a:rPr b="0" lang="en-US" sz="2800" spc="-1" strike="noStrike">
                    <a:solidFill>
                      <a:srgbClr val="3333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 baseline="30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= 3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688760" y="4038120"/>
                <a:ext cx="6922800" cy="612720"/>
                <a:chOff x="1688760" y="4038120"/>
                <a:chExt cx="6922800" cy="612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064480" y="4191120"/>
                  <a:ext cx="3547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ff"/>
                      </a:solidFill>
                      <a:latin typeface="Times New Roman"/>
                    </a:rPr>
                    <a:t>The base remains the same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1688760" y="4038120"/>
                  <a:ext cx="3429000" cy="381600"/>
                  <a:chOff x="1688760" y="4038120"/>
                  <a:chExt cx="3429000" cy="3816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flipH="1">
                    <a:off x="1688760" y="4419720"/>
                    <a:ext cx="3429000" cy="0"/>
                  </a:xfrm>
                  <a:prstGeom prst="line">
                    <a:avLst/>
                  </a:prstGeom>
                  <a:ln w="9360">
                    <a:solidFill>
                      <a:srgbClr val="33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V="1">
                    <a:off x="4241880" y="4038120"/>
                    <a:ext cx="0" cy="381240"/>
                  </a:xfrm>
                  <a:prstGeom prst="line">
                    <a:avLst/>
                  </a:prstGeom>
                  <a:ln w="9360">
                    <a:solidFill>
                      <a:srgbClr val="3333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V="1">
                    <a:off x="1701720" y="411444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3333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6" name=""/>
              <p:cNvSpPr/>
              <p:nvPr/>
            </p:nvSpPr>
            <p:spPr>
              <a:xfrm>
                <a:off x="609480" y="2909880"/>
                <a:ext cx="156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olution: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each of the following common logarithms on a calculator. Round to four decimal pl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log 645,77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log 0.000023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log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57200" y="4800600"/>
            <a:ext cx="8077320" cy="779400"/>
            <a:chOff x="457200" y="4800600"/>
            <a:chExt cx="8077320" cy="779400"/>
          </a:xfrm>
        </p:grpSpPr>
        <p:sp>
          <p:nvSpPr>
            <p:cNvPr id="170" name=""/>
            <p:cNvSpPr/>
            <p:nvPr/>
          </p:nvSpPr>
          <p:spPr>
            <a:xfrm>
              <a:off x="457200" y="4876920"/>
              <a:ext cx="8077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) log 0.0000239                                             –4.62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3124080" y="4800600"/>
              <a:ext cx="3657600" cy="77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"/>
          <p:cNvGrpSpPr/>
          <p:nvPr/>
        </p:nvGrpSpPr>
        <p:grpSpPr>
          <a:xfrm>
            <a:off x="457200" y="5715000"/>
            <a:ext cx="8305920" cy="762120"/>
            <a:chOff x="457200" y="5715000"/>
            <a:chExt cx="8305920" cy="762120"/>
          </a:xfrm>
        </p:grpSpPr>
        <p:sp>
          <p:nvSpPr>
            <p:cNvPr id="173" name=""/>
            <p:cNvSpPr/>
            <p:nvPr/>
          </p:nvSpPr>
          <p:spPr>
            <a:xfrm>
              <a:off x="457200" y="5867280"/>
              <a:ext cx="8305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) log (–3)                                                Does not exis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2514600" y="5715000"/>
              <a:ext cx="3728880" cy="71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"/>
          <p:cNvGrpSpPr/>
          <p:nvPr/>
        </p:nvGrpSpPr>
        <p:grpSpPr>
          <a:xfrm>
            <a:off x="533520" y="2819520"/>
            <a:ext cx="8229600" cy="1066680"/>
            <a:chOff x="533520" y="2819520"/>
            <a:chExt cx="8229600" cy="1066680"/>
          </a:xfrm>
        </p:grpSpPr>
        <p:sp>
          <p:nvSpPr>
            <p:cNvPr id="176" name=""/>
            <p:cNvSpPr/>
            <p:nvPr/>
          </p:nvSpPr>
          <p:spPr>
            <a:xfrm>
              <a:off x="685800" y="2819520"/>
              <a:ext cx="8077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3520" y="327672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unction Valu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adou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ound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520" y="3733920"/>
              <a:ext cx="815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57200" y="3792600"/>
            <a:ext cx="8077320" cy="931680"/>
            <a:chOff x="457200" y="3792600"/>
            <a:chExt cx="8077320" cy="931680"/>
          </a:xfrm>
        </p:grpSpPr>
        <p:sp>
          <p:nvSpPr>
            <p:cNvPr id="180" name=""/>
            <p:cNvSpPr/>
            <p:nvPr/>
          </p:nvSpPr>
          <p:spPr>
            <a:xfrm>
              <a:off x="457200" y="3886200"/>
              <a:ext cx="8077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) log 645,778                                                   5.81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3124080" y="3792600"/>
              <a:ext cx="3649680" cy="93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atural Logarithm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arithms,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re called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natural logarith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abbreviation “ln” is generally used for natural logarithms. Thu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ns     log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n 1 = 0  and 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 for the logarithmic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each of the following natural logarithms on a calculator. Round to four decimal pl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ln 645,77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ln 0.000023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log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)  l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33520" y="3276720"/>
            <a:ext cx="8229600" cy="1066680"/>
            <a:chOff x="533520" y="3276720"/>
            <a:chExt cx="8229600" cy="1066680"/>
          </a:xfrm>
        </p:grpSpPr>
        <p:sp>
          <p:nvSpPr>
            <p:cNvPr id="187" name=""/>
            <p:cNvSpPr/>
            <p:nvPr/>
          </p:nvSpPr>
          <p:spPr>
            <a:xfrm>
              <a:off x="685800" y="3276720"/>
              <a:ext cx="8077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3520" y="373392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unction Valu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adou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ound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3520" y="4191120"/>
              <a:ext cx="815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57200" y="4392720"/>
            <a:ext cx="8077320" cy="788760"/>
            <a:chOff x="457200" y="4392720"/>
            <a:chExt cx="8077320" cy="788760"/>
          </a:xfrm>
        </p:grpSpPr>
        <p:sp>
          <p:nvSpPr>
            <p:cNvPr id="191" name=""/>
            <p:cNvSpPr/>
            <p:nvPr/>
          </p:nvSpPr>
          <p:spPr>
            <a:xfrm>
              <a:off x="457200" y="4495680"/>
              <a:ext cx="8077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) ln 645,778                                                    13.378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2819520" y="4392720"/>
              <a:ext cx="3612960" cy="78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457200" y="5562720"/>
            <a:ext cx="8077320" cy="796680"/>
            <a:chOff x="457200" y="5562720"/>
            <a:chExt cx="8077320" cy="796680"/>
          </a:xfrm>
        </p:grpSpPr>
        <p:sp>
          <p:nvSpPr>
            <p:cNvPr id="194" name=""/>
            <p:cNvSpPr/>
            <p:nvPr/>
          </p:nvSpPr>
          <p:spPr>
            <a:xfrm>
              <a:off x="457200" y="5715000"/>
              <a:ext cx="8077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) ln 0.0000239                                             –10.64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2895480" y="5562720"/>
              <a:ext cx="3657600" cy="79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1143000"/>
            <a:ext cx="8229600" cy="1066680"/>
            <a:chOff x="457200" y="1143000"/>
            <a:chExt cx="8229600" cy="1066680"/>
          </a:xfrm>
        </p:grpSpPr>
        <p:sp>
          <p:nvSpPr>
            <p:cNvPr id="198" name=""/>
            <p:cNvSpPr/>
            <p:nvPr/>
          </p:nvSpPr>
          <p:spPr>
            <a:xfrm>
              <a:off x="609480" y="1143000"/>
              <a:ext cx="8077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160020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unction Valu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adou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ound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" y="2057400"/>
              <a:ext cx="815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57200" y="5486400"/>
            <a:ext cx="8305920" cy="838080"/>
            <a:chOff x="457200" y="5486400"/>
            <a:chExt cx="8305920" cy="838080"/>
          </a:xfrm>
        </p:grpSpPr>
        <p:sp>
          <p:nvSpPr>
            <p:cNvPr id="202" name=""/>
            <p:cNvSpPr/>
            <p:nvPr/>
          </p:nvSpPr>
          <p:spPr>
            <a:xfrm>
              <a:off x="457200" y="5715000"/>
              <a:ext cx="8305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) ln 1                                                           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2743200" y="5486400"/>
              <a:ext cx="3693960" cy="7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"/>
          <p:cNvGrpSpPr/>
          <p:nvPr/>
        </p:nvGrpSpPr>
        <p:grpSpPr>
          <a:xfrm>
            <a:off x="457200" y="3962520"/>
            <a:ext cx="8077320" cy="895320"/>
            <a:chOff x="457200" y="3962520"/>
            <a:chExt cx="8077320" cy="895320"/>
          </a:xfrm>
        </p:grpSpPr>
        <p:sp>
          <p:nvSpPr>
            <p:cNvPr id="205" name=""/>
            <p:cNvSpPr/>
            <p:nvPr/>
          </p:nvSpPr>
          <p:spPr>
            <a:xfrm>
              <a:off x="457200" y="4191120"/>
              <a:ext cx="8077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) l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2666880" y="3962520"/>
              <a:ext cx="3721320" cy="89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457200" y="2590920"/>
            <a:ext cx="8381880" cy="779400"/>
            <a:chOff x="457200" y="2590920"/>
            <a:chExt cx="8381880" cy="779400"/>
          </a:xfrm>
        </p:grpSpPr>
        <p:sp>
          <p:nvSpPr>
            <p:cNvPr id="208" name=""/>
            <p:cNvSpPr/>
            <p:nvPr/>
          </p:nvSpPr>
          <p:spPr>
            <a:xfrm>
              <a:off x="457200" y="276084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) ln (–5)                                                   Does not exis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2590920" y="2590920"/>
              <a:ext cx="3639960" cy="75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hanging Logarithmic Base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696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ange-of-Base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logarithmic bas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ny positive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048120" y="3733920"/>
          <a:ext cx="256536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733920"/>
                    <a:ext cx="256536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2479320"/>
            <a:ext cx="731520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, we 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5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8. Then we substitute into the change-of-base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429000" y="4280040"/>
          <a:ext cx="2209680" cy="13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280040"/>
                    <a:ext cx="220968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926640" y="1600200"/>
            <a:ext cx="560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using common loga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3123720"/>
            <a:ext cx="761976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8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137040" y="4381560"/>
          <a:ext cx="311148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7040" y="4381560"/>
                    <a:ext cx="31114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54000" y="1197000"/>
            <a:ext cx="593064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also use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 con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using natural loga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5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Exponential and 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Logarithmic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51424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1  Invers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2  Exponential 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3  Logarithmic Functions an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4  Properties of Logarithm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  Solving Exponential and Logarithmic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6  Applications and Models: Growth and Decay; and 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Graphs of Logarithmic Functions -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1933560"/>
            <a:ext cx="5029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ho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Sele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comp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2295360" cy="4168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876920" y="3495600"/>
            <a:ext cx="34430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933560"/>
            <a:ext cx="81532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ho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graphing calculator. First change b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62120" y="3378240"/>
          <a:ext cx="350496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378240"/>
                    <a:ext cx="350496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778280" y="3200400"/>
            <a:ext cx="436572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933560"/>
            <a:ext cx="81532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ho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ors which graph inverses automa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3429000"/>
            <a:ext cx="38862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wi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graphs of bo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ts inver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dra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724280" y="3330720"/>
            <a:ext cx="426744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each of the following. Describe how each graph can be obtained from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Give the domain and the vertical asymptote of each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l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|l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1)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708280" y="3360600"/>
          <a:ext cx="27144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8280" y="3360600"/>
                    <a:ext cx="2714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276720" y="205740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0574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3676680" y="2066760"/>
          <a:ext cx="114120" cy="1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6680" y="206676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857840" y="2428920"/>
            <a:ext cx="3828960" cy="39718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l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is a shift 3 units left. The domain is the set of all real numbers greater than –3, (–3, ∞). The lin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–3 is the vertical asympt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23032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038480" y="3220920"/>
            <a:ext cx="3748320" cy="3586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3 –   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is a vertical shrinking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llowed by a reflection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 and a translation up 3 units. The domain is the set of all positive real numbers, (0, ∞).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 is the vertical asympt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781360" y="990720"/>
          <a:ext cx="271440" cy="55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1360" y="990720"/>
                    <a:ext cx="27144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914400" y="3505320"/>
            <a:ext cx="184644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|l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1)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is a transl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ight 1 unit. The effect of the absolute is to reflect the negative output a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 The domain is the set of all positive real numbers greater than 1, (1, ∞). The 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1 is the vertical asympt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1838160" cy="2886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038480" y="3124080"/>
            <a:ext cx="36133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pplication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tudy by psychologists Bornstein and Bornstein, it was found that the average walking spe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n feet per second, of a person living in a city of popu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ousands, is given by the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37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pulation of Hartford, Connecticut, is 124,848. Find the average walking speed of people living in Hartf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buClr>
                <a:srgbClr val="000000"/>
              </a:buClr>
              <a:buSzPct val="75000"/>
              <a:buFont typeface="Times New Roman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pulation of San Antonio, Texas, is 1,236,249. Find the average walking speed of people living in San Anto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buClr>
                <a:srgbClr val="000000"/>
              </a:buClr>
              <a:buSzPct val="75000"/>
              <a:buFont typeface="Times New Roman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ociologist computes the average walking speed in a city to the approximately 2.0 ft/sec. Use this information to estimate the population of the 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thousands and 124,848 = 124.848 thousand, we substitute 124.848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42670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Substitute 1236.249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236.24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37 l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236.249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7 ft/se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verage walking speed of people living in San Antonio is about 2.7 ft/se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05320" y="8481960"/>
            <a:ext cx="184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24.84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37 l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24.848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 ft/se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verage walking speed of people living in Hartford is about 1.8 ft/se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5.3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garithmic Functions and Graph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common logarithms and natural logarithms with and without a calcul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between exponential and logarithmic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logarithmic b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logarithmic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applied problems involving logarithmic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 Graph with a viewing window [0, 600, 0, 4] because inputs are very large and outputs are very small by compar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05320" y="8481960"/>
            <a:ext cx="184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362320" y="2139840"/>
            <a:ext cx="510228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19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 To find the population for which the walking speed is 2.0 ft/sec, we substitute 2.0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.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37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0.05, and solv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5320" y="8481960"/>
            <a:ext cx="184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2286000"/>
            <a:ext cx="7086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Intersect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37 l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0.05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62120" y="3335400"/>
            <a:ext cx="4227480" cy="3294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105520" y="4114800"/>
            <a:ext cx="3733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city with an average walking speed of 2.0 ft/sec, the population is about 194.5 thousand or 194,5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garithmic Functions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functions are inverses of exponential functions. We can draw the graph of the inverse of an exponential function by interchang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raph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680080"/>
            <a:ext cx="80773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Note that the curve does not touch or cros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3699000"/>
            <a:ext cx="71629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value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value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ot the points and connect them with a smooth cu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2160" y="1143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1679400"/>
            <a:ext cx="3173400" cy="4797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91000" y="2438280"/>
            <a:ext cx="434808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24320" y="1662120"/>
            <a:ext cx="5567400" cy="4815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828800"/>
            <a:ext cx="3200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urve looks like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lected across the 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s we would expect for an inverse. The inve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ogarithmic Function, Base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461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f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at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ositive constant other than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read lo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“the logarithm, b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inding Certain Logarithms -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each of the following logarith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9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85800" y="3124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onent to which we raise 10 to obtain 10,000 is 4;  thus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000 =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55627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11480" indent="-41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onent to which we raise 10 to get 0.01 is –2, so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1 = –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5800" y="4648320"/>
            <a:ext cx="8077320" cy="838080"/>
            <a:chOff x="685800" y="4648320"/>
            <a:chExt cx="8077320" cy="838080"/>
          </a:xfrm>
        </p:grpSpPr>
        <p:sp>
          <p:nvSpPr>
            <p:cNvPr id="109" name=""/>
            <p:cNvSpPr/>
            <p:nvPr/>
          </p:nvSpPr>
          <p:spPr>
            <a:xfrm>
              <a:off x="685800" y="4863960"/>
              <a:ext cx="8077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e hav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2743200" y="4648320"/>
            <a:ext cx="3530520" cy="83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3200" y="4648320"/>
                      <a:ext cx="353052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:  The exponent to which we raise 2 to get 8 is 3, so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=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91440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"/>
          <p:cNvGrpSpPr/>
          <p:nvPr/>
        </p:nvGrpSpPr>
        <p:grpSpPr>
          <a:xfrm>
            <a:off x="685800" y="2438280"/>
            <a:ext cx="8077320" cy="1219320"/>
            <a:chOff x="685800" y="2438280"/>
            <a:chExt cx="8077320" cy="1219320"/>
          </a:xfrm>
        </p:grpSpPr>
        <p:sp>
          <p:nvSpPr>
            <p:cNvPr id="117" name=""/>
            <p:cNvSpPr/>
            <p:nvPr/>
          </p:nvSpPr>
          <p:spPr>
            <a:xfrm>
              <a:off x="685800" y="2438280"/>
              <a:ext cx="80773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) log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9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:                         The exponent to which we raise 9 to get 3 is 1/2; thus log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9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 = 1/2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2286000" y="2502000"/>
            <a:ext cx="1968480" cy="495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2502000"/>
                      <a:ext cx="1968480" cy="4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0" name=""/>
          <p:cNvSpPr/>
          <p:nvPr/>
        </p:nvSpPr>
        <p:spPr>
          <a:xfrm>
            <a:off x="685800" y="37339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:  1 =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The exponent to which we raise 6 to get 1 is 0, so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5029200"/>
            <a:ext cx="807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:  8 =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exponent to which we raise 8 to get 8 is 4, so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Cathy Lovingier</cp:lastModifiedBy>
  <dcterms:modified xsi:type="dcterms:W3CDTF">2008-04-17T20:17:48Z</dcterms:modified>
  <cp:revision>246</cp:revision>
  <dc:subject/>
  <dc:title>No Slide Title</dc:title>
</cp:coreProperties>
</file>